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7C9-F64A-4BB1-A60B-7D9AAF87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E81-C42A-40BB-BE4F-00B7F106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575-72F4-4AC6-9BE7-B660DF29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5A9-9381-48A5-8F54-BF08A36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2F6-214C-474D-BB85-8CC035AF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2B9-9AB7-4FC9-8B51-76BA93B3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4E6-0EE0-4EE0-9704-9CDE55A2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5C7-7292-48E5-82C3-8D0ED084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3A1-2E42-4ECC-8B8A-F582AB4C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4B0-A89B-4CDE-B11B-861118C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866-C4AE-4AF5-B213-6189371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7A8-3747-4153-A9F1-F65D5F1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D2E0-23A2-48EB-8E84-49F932E4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inapotteryonline.com/wp-content/uploads/2010/09/HAN-DYNASTY-A-RARE-LARGE-PAINTED-POTTERY-FIGURE-OF-A-TORTOIS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aurashefler.net/arthistory2010/wp-content/uploads/2010/07/Western_Han_Chinese_Sil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S6OwJtNcUsAESujzbkF/SIG=12qeg941d/EXP=1302081806/**http%3A//farm3.static.flickr.com/2680/4474429702_cb738eb6de_z.jpg%3Fzz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N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048040"/>
            <a:ext cx="4953240" cy="348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981080"/>
            <a:ext cx="3543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 206 BCE – 2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95280"/>
            <a:ext cx="533376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ismograph whi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earthqu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re they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rush supplies 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e people and se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iers to the earthqu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to keep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05520"/>
            <a:ext cx="8001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ism – strong rulers and stric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 – ruler was like a good f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 set a good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Chinese seismograph"/>
          <p:cNvPicPr/>
          <p:nvPr/>
        </p:nvPicPr>
        <p:blipFill>
          <a:blip r:embed="rId1"/>
          <a:stretch/>
        </p:blipFill>
        <p:spPr>
          <a:xfrm>
            <a:off x="5410080" y="990720"/>
            <a:ext cx="357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049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 most were farmers, lived in mud homes wit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ched roofs, work was done by hand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, wore simple rough cloth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als, ate steamed wheat and mille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rth), rice (south), dumplings, fish, 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meat, ginger, garlic, onions, wer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71620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View Image"/>
          <p:cNvPicPr/>
          <p:nvPr/>
        </p:nvPicPr>
        <p:blipFill>
          <a:blip r:embed="rId2"/>
          <a:stretch/>
        </p:blipFill>
        <p:spPr>
          <a:xfrm>
            <a:off x="990720" y="3809880"/>
            <a:ext cx="411480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80880"/>
            <a:ext cx="784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1 in 10 lived in cities, cities were neatly l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and were centers of government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, and trade,  poor lived in cl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and had gangs, rich lived in b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rated homes and wore fine cloth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plenty of entertainment – musician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glers, acrob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3324240" cy="34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2252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95280"/>
            <a:ext cx="272088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45720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trade route in whi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exchanged China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k for “western” goods su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lassware and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50532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men – agents who w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he buyer and sell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on most of the Silk R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so that the secrets of sil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would be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762120"/>
            <a:ext cx="48769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– used herb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, and acupun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paper, excep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and writing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first dict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creased the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smo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1743120" cy="243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5029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 of warfare from 220 – 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3132407_med.jpg"/>
          <p:cNvPicPr/>
          <p:nvPr/>
        </p:nvPicPr>
        <p:blipFill>
          <a:blip r:embed="rId3"/>
          <a:stretch/>
        </p:blipFill>
        <p:spPr>
          <a:xfrm>
            <a:off x="6095880" y="609480"/>
            <a:ext cx="27226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0:55:09Z</dcterms:created>
  <dc:creator>gehadde</dc:creator>
  <dc:description/>
  <dc:language>en-US</dc:language>
  <cp:lastModifiedBy>gehadde</cp:lastModifiedBy>
  <dcterms:modified xsi:type="dcterms:W3CDTF">2012-03-26T13:08:23Z</dcterms:modified>
  <cp:revision>15</cp:revision>
  <dc:subject/>
  <dc:title>HAN DYNASTY</dc:title>
</cp:coreProperties>
</file>